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D5-C085-462C-B801-A46E4ECA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225-611E-41A9-9F6C-8270DE2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BB9-E715-4383-91A5-08014185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57F-3ED8-46B8-8026-1E16FA1D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2CA-5A6B-461C-B189-575FEFA2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C92-0B38-42BD-A8BA-EAB1FCF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35B-0807-41EC-A1E2-2CFCAA0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9C0-C36A-4445-826E-6C20826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DFD-59DF-48D6-97BD-B86139A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EDB-C3B2-4D2A-B975-D9C1E8A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40E-0D9C-4AC8-89B6-11C817D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42B-C5BE-47E4-ACD9-4A3C255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3DE-70E9-445A-86A3-4BD76094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Исследовательская работа</a:t>
            </a:r>
            <a:r>
              <a:rPr b="1" lang="en-US" sz="79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7900"/>
            </a:br>
            <a:r>
              <a:rPr b="1" lang="en-US" sz="7900" spc="-1" strike="noStrike">
                <a:solidFill>
                  <a:srgbClr val="000000"/>
                </a:solidFill>
                <a:latin typeface="Monotype Corsiva"/>
              </a:rPr>
              <a:t>               «Кролики»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720" y="4436640"/>
            <a:ext cx="40672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Работу выполн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ченик 4 В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иманской СОШ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еливанов Влади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иман.200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0229" r="68595" b="0"/>
          <a:stretch/>
        </p:blipFill>
        <p:spPr>
          <a:xfrm>
            <a:off x="0" y="3025800"/>
            <a:ext cx="4067280" cy="383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700280"/>
            <a:ext cx="2736720" cy="9169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ководител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ЯРН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1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Monotype Corsiva"/>
              </a:rPr>
              <a:t>Цель работы 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Monotype Corsiva"/>
              </a:rPr>
              <a:t>исследовать кроликов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9582" t="11205" r="32995" b="3374"/>
          <a:stretch/>
        </p:blipFill>
        <p:spPr>
          <a:xfrm>
            <a:off x="5311800" y="0"/>
            <a:ext cx="383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-36000"/>
          </a:blip>
          <a:srcRect l="0" t="918" r="69434" b="65563"/>
          <a:stretch/>
        </p:blipFill>
        <p:spPr>
          <a:xfrm>
            <a:off x="1187280" y="3500280"/>
            <a:ext cx="321660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-18000"/>
          </a:blip>
          <a:srcRect l="70197" t="35623" r="0" b="34652"/>
          <a:stretch/>
        </p:blipFill>
        <p:spPr>
          <a:xfrm>
            <a:off x="5754600" y="3473280"/>
            <a:ext cx="338940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-12000"/>
          </a:blip>
          <a:srcRect l="36167" t="70229" r="34870" b="2348"/>
          <a:stretch/>
        </p:blipFill>
        <p:spPr>
          <a:xfrm>
            <a:off x="0" y="0"/>
            <a:ext cx="3276720" cy="308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</a:rPr>
              <a:t>Объектом  </a:t>
            </a:r>
            <a:r>
              <a:rPr b="1" i="1" lang="en-US" sz="7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работы являются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эти кроли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ля того, чтобы больше узнать об объекте моих исследований, я прочитал много различных  энциклопедий о данном животн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6000"/>
          </a:blip>
          <a:srcRect l="0" t="9134" r="40038" b="26842"/>
          <a:stretch/>
        </p:blipFill>
        <p:spPr>
          <a:xfrm>
            <a:off x="4788000" y="0"/>
            <a:ext cx="4356000" cy="3602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3528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Monotype Corsiva"/>
              </a:rPr>
              <a:t>И вот, что я узнал новог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тличие от настоящих зайцев, кролики меньше ростом, более тонкого сложения, имеют более короткие голову, уши и задние лапы. Длина этого зверька вместе с хвостом достигает 40 сантиметров. Кролики селятся в холмистой и песчаной местностях, поросших кустарником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егают кролики гораздо быстрее и ловчее, чем зайцы. Зрение и слух у них тоже лучше, чем у зайцев, и благодаря этому, они великолепно умеют вовремя прятаться. Это очень дружелюбные и общительные создания, которые с большой любовью ухаживают за потомством. Видимо из-за этого плодовитость у кроликов просто фантастическая. За четыре года пара кроликов может наплодить 250 детенышей. Учитывая, что все дети тоже размножаются, цифра эта вырастает до 1250000 крол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bright="-12000"/>
          </a:blip>
          <a:srcRect l="70197" t="70229" r="0" b="0"/>
          <a:stretch/>
        </p:blipFill>
        <p:spPr>
          <a:xfrm>
            <a:off x="0" y="3098880"/>
            <a:ext cx="3780000" cy="3759120"/>
          </a:xfrm>
          <a:prstGeom prst="rect">
            <a:avLst/>
          </a:prstGeom>
          <a:ln w="0">
            <a:noFill/>
          </a:ln>
        </p:spPr>
      </p:pic>
    </p:spTree>
  </p:cSld>
  <p:transition spd="med" advTm="36000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Питается кролик тем же, чем и заяц, но считается еще более вредным грызуном, потому что уничтожает огромное количество молодых деревьев. В Новой Зеландии и Австралии их развелось  невероятное количество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Там они буквально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дочиста объед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пастбища, что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превратилось в настоящ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стихийное  бед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610" t="36304" r="69327" b="36816"/>
          <a:stretch/>
        </p:blipFill>
        <p:spPr>
          <a:xfrm>
            <a:off x="0" y="3540240"/>
            <a:ext cx="3492360" cy="3317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920"/>
                            </p:stCondLst>
                            <p:childTnLst>
                              <p:par>
                                <p:cTn id="20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Многие люди разводят кроликов ради теплого, красивого меха, легкого пуха и вкусного, питательного мяса. Их разводят в своих личных хозяйств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Мой дедушка так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нимается развед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роликов. И для т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чтобы провести исследов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я отправился к н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Я провел у дедушки целый де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аблюдал за поведением крол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bright="6000"/>
          </a:blip>
          <a:srcRect l="13773" t="31068" r="62981" b="31105"/>
          <a:stretch/>
        </p:blipFill>
        <p:spPr>
          <a:xfrm>
            <a:off x="0" y="2708280"/>
            <a:ext cx="3656160" cy="41497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45000"/>
            <a:ext cx="63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Но нельзя давать им траву, влажную от росы или дождя. От этого кролики могут опасно заболеть. Такую  траву нужно сначала просушит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43280" y="-360"/>
            <a:ext cx="6300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2deb6c"/>
                </a:solidFill>
                <a:uFillTx/>
                <a:latin typeface="Monotype Corsiva"/>
              </a:rPr>
              <a:t>И вот, что я выявил в итог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Содержат кроликов в клетках. Днем зверьки обычно спят, а ночью бодрствуют. Кормят кроликов разнообразной пищей. Им дают: зеленую траву, сено, корнеплоды, зерно, картофель, листья капусты, ботву моркови  и свеклы. Кролики охотно едят многие травы: одуванчик, люцер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подорожник, клев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тимофеев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18000"/>
          </a:blip>
          <a:srcRect l="32524" t="2155" r="37437" b="61522"/>
          <a:stretch/>
        </p:blipFill>
        <p:spPr>
          <a:xfrm>
            <a:off x="179280" y="0"/>
            <a:ext cx="2805120" cy="501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34946" t="35026" r="35694" b="35608"/>
          <a:stretch/>
        </p:blipFill>
        <p:spPr>
          <a:xfrm>
            <a:off x="6300720" y="4221000"/>
            <a:ext cx="2627280" cy="2637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100"/>
                            </p:stCondLst>
                            <p:childTnLst>
                              <p:par>
                                <p:cTn id="2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100"/>
                            </p:stCondLst>
                            <p:childTnLst>
                              <p:par>
                                <p:cTn id="2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1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10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3486" t="24677" r="12439" b="0"/>
          <a:stretch/>
        </p:blipFill>
        <p:spPr>
          <a:xfrm>
            <a:off x="0" y="0"/>
            <a:ext cx="3924360" cy="3135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3141360"/>
            <a:ext cx="64436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Мне очень понравилось проводить исследования, наблюдать за жизнью маленьких зверьков и узнавать много новог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40558" t="37557" r="23049" b="8398"/>
          <a:stretch/>
        </p:blipFill>
        <p:spPr>
          <a:xfrm>
            <a:off x="6456240" y="981000"/>
            <a:ext cx="2687760" cy="5877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17:46Z</dcterms:created>
  <dc:creator>SamLab.ws</dc:creator>
  <dc:description/>
  <dc:language>en-US</dc:language>
  <cp:lastModifiedBy>Лариса</cp:lastModifiedBy>
  <dcterms:modified xsi:type="dcterms:W3CDTF">2010-01-22T16:45:57Z</dcterms:modified>
  <cp:revision>12</cp:revision>
  <dc:subject/>
  <dc:title>Исследовательская работа  «Кролики»</dc:title>
</cp:coreProperties>
</file>